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../IllustrPres/&#1055;&#1088;&#1080;&#1083;&#1086;&#1078;&#1052;&#1084;&#1043;&#1088;/&#1084;&#1080;&#1089;&#1089;&#1080;&#1103;&#1053;2-&#1076;&#1080;&#1089;&#1090;&#1052;&#1052;.avi" TargetMode="External"/><Relationship Id="rId2" Type="http://schemas.openxmlformats.org/officeDocument/2006/relationships/hyperlink" Target="file:///../../../IllustrPres/&#1055;&#1088;&#1080;&#1083;&#1086;&#1078;&#1052;&#1084;&#1043;&#1088;/AD1200.AVI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00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15900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Основные понятия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422100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156D-0D6D-43BA-8C2B-7B363C9BA81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9080" y="1449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120aa"/>
                </a:solidFill>
                <a:latin typeface="Arial"/>
              </a:rPr>
              <a:t>Занятие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История, носители и средства информации. Виртуальная реальность и навигационное пространство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94F7-92CB-4B33-BE1B-66841FEF12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35640" y="15922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Первый в мире виртуальный шлем Ивана Сазерленда"/>
          <p:cNvPicPr/>
          <p:nvPr/>
        </p:nvPicPr>
        <p:blipFill>
          <a:blip r:embed="rId1"/>
          <a:stretch/>
        </p:blipFill>
        <p:spPr>
          <a:xfrm>
            <a:off x="324000" y="2492280"/>
            <a:ext cx="4032000" cy="2579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88000" y="1773360"/>
            <a:ext cx="4032000" cy="45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дна из первых моделей стереооч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397D-8753-473A-9BB7-31562A3623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113-1-s" descr="Виртуальная перчатка"/>
          <p:cNvPicPr/>
          <p:nvPr/>
        </p:nvPicPr>
        <p:blipFill>
          <a:blip r:embed="rId1"/>
          <a:stretch/>
        </p:blipFill>
        <p:spPr>
          <a:xfrm>
            <a:off x="250920" y="1843200"/>
            <a:ext cx="4141800" cy="29541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392720" y="112536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уальная перчатка, к примеру, приобрела довольно большую популярность. На каждом ее пальце закреплены отдельные сенсоры или маркеры, а также имеется одно общее электромагнитное или ультразвуковое устройство для трекин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4FC4-9A58-4D64-B4C8-4B9D3A98F8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35640" y="1341360"/>
            <a:ext cx="0" cy="5291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003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33128" descr=""/>
          <p:cNvPicPr/>
          <p:nvPr/>
        </p:nvPicPr>
        <p:blipFill>
          <a:blip r:embed="rId1"/>
          <a:stretch/>
        </p:blipFill>
        <p:spPr>
          <a:xfrm>
            <a:off x="216000" y="1557360"/>
            <a:ext cx="4176720" cy="2033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000160" y="518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1" descr=""/>
          <p:cNvPicPr/>
          <p:nvPr/>
        </p:nvPicPr>
        <p:blipFill>
          <a:blip r:embed="rId2"/>
          <a:stretch/>
        </p:blipFill>
        <p:spPr>
          <a:xfrm>
            <a:off x="250920" y="3936960"/>
            <a:ext cx="1971720" cy="17240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186000" y="49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33126" descr=""/>
          <p:cNvPicPr/>
          <p:nvPr/>
        </p:nvPicPr>
        <p:blipFill>
          <a:blip r:embed="rId3"/>
          <a:stretch/>
        </p:blipFill>
        <p:spPr>
          <a:xfrm>
            <a:off x="2340000" y="3938760"/>
            <a:ext cx="2087640" cy="1725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53080" y="1378080"/>
            <a:ext cx="403200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хема «4+1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ешний вид акустики по Logitech-овски презентабелен и аккурат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23D30-3E3B-43E7-86D4-18C9DC09C49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35640" y="69228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512640"/>
            <a:ext cx="4068720" cy="264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Виртуальная операционная в действии"/>
          <p:cNvPicPr/>
          <p:nvPr/>
        </p:nvPicPr>
        <p:blipFill>
          <a:blip r:embed="rId2"/>
          <a:stretch/>
        </p:blipFill>
        <p:spPr>
          <a:xfrm>
            <a:off x="216000" y="3465360"/>
            <a:ext cx="4068720" cy="2745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50920" y="332100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427640" y="297000"/>
            <a:ext cx="446544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иболее всеобъемлющая система интерактивной ВР — иммерсионная (англ. immerse — погружаться). Она обеспечивает как частичное, так и полное погружение пользователя в виртуальную сред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3860640"/>
            <a:ext cx="44654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ная и смешанная реальность (augmented and mixed reality), т.е. реальность, дополненная виртуальной составляю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ые вирт. персонажи, диско жок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ртуальная образовательная среда: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экранная проекция виртуальных ми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ПерсДиско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Б24ВиртМКругП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виртуальной реальности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8C41-C32E-4461-A5C4-AB5C5027B52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в обучающем курсе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поративная вечеринка, круговая пано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IntrXVsnd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усалКруг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F21C-0472-4A97-8505-88CB3ED620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рактивная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зыкальное шоу, мультиэкр. прое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льтимедиа технологии в развед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знес видеопрезентация программ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ртМирРек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ДПрилРеалВрем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зВиртШоуКупол.m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ПриложМмГр\миссияН2-дистММ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ПриложМмГр\AD1200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AE3E1-DE01-4797-B1BC-AC72218BC9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0" y="141300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788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ьютерное искус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пецэффекты в кино: останови пули, матр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ьм целиком сгенерированный на компьютере: шр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учение работе с программами, CorelDraw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1413000"/>
            <a:ext cx="4032000" cy="4895640"/>
          </a:xfrm>
          <a:prstGeom prst="rect">
            <a:avLst/>
          </a:prstGeom>
          <a:noFill/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mpAr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matrix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shrek1frm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732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ложМмГр\CorelDraw Int-2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0"/>
            <a:ext cx="8496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120aa"/>
                </a:solidFill>
                <a:latin typeface="Arial"/>
              </a:rPr>
              <a:t>Занятие 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Области применения мультимедийных приложени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463B-A5C7-449E-B0A1-90EE5EAB408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33:59Z</dcterms:modified>
  <cp:revision>96</cp:revision>
  <dc:subject/>
  <dc:title>Lecture Template </dc:title>
</cp:coreProperties>
</file>